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2F15-F57D-44AF-9111-5E329531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836-682C-491E-BBF2-461CA738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140-8489-4071-BE61-634F3D12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BF4-561D-4718-BEAC-33FB7AC4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63C0-E158-44D2-901D-39030114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C072-9A3B-46C6-8C27-E8764164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8F4D-E784-4657-AF5C-E4623076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50DA-B2A7-430E-926D-F1037F52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21EB-D997-445D-8CF8-02F43BCD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9CB1-06CD-468E-8F29-B0023275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AE26-048C-400A-8FF2-B2E5FEB7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D77-DA61-4AAE-811A-6D346580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E2FF-DB19-44D5-A5BA-ED6AF937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F89A-1A3C-4738-A0A1-80706D75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B4C3-FEA4-41F4-BF51-18D95B7A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8DCF-2C1F-44E5-9F57-1A7E4700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AF28-0DB7-4A69-BB38-346C2850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779B-59A5-4C7C-AAE6-5DBFD0D4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E46-4F31-4213-B38D-9C478FA8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DA8-912F-4CD5-94EC-AFC48CB7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A1E-1946-4CE7-8D3D-FE3769B9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766-299F-43A6-BA1F-5C5E004B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90C-E03D-44C3-9BD6-A92257C7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913-371D-4C6E-BAEF-38D8CDD9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2DDD-6863-4FAB-B570-5915FDF95DF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61A9-E6BE-40FC-9BD0-B771C809247D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مركز المدين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هو المجمع الأفضل للتسوق، كما يعتبر مكاناً مسلياً لقضاء أوقات الفرا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228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71600" y="2742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تبلغ مساحته 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30000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 متر مرب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يقع بالقرب من شارعين رئيسي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يقع بالقرب من محطة القطار الرئيسية و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محطة الحافل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يعتبر المجمع الأكبر في المنطقة و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يحتوي على عدد كبير من المحلات التجار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228680" cy="1371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9072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99072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333399"/>
                </a:solidFill>
                <a:latin typeface="Tahoma"/>
              </a:rPr>
              <a:t>الموقع</a:t>
            </a: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المرك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400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مح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يحتوي على مساحة تجري فيها مسابقات للأطفا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يحتوي على أكثر من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مطعم ومقه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صالة لعرض الافلا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حضانتين للأطفا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الحديقة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ساحة لعب للأطفا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فندقي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صالة للياقة البدن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99072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حديق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1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ahoma"/>
              </a:rPr>
              <a:t>يتكون هيكل البناء الأساسي      من الألمنيوم والزجاج              وفي أعلاه قبة زجاجية     خضراء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ahoma"/>
              </a:rPr>
              <a:t>تحتوي الحديقة على مداخل عديدة لتسهيل دخول الزبائن كما يوجد مصاعد بداخل المجمع للمساعدة على الوصول إلى جميع الأدوا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ahoma"/>
              </a:rPr>
              <a:t>توجد ممرات تصل جميع أطراف الحديقة ببعضها البع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1122480" cy="1255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66680" y="99072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مظهر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مركز استعلاما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مركز صراف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دليل تسو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خدمات للتسو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  عبر الانترن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صرافات آل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22868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8765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قسم التطوي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132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شارع الوحد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حي الزهو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ص ب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155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4549323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001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66680" y="99072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للاستعل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:20</cp:lastModifiedBy>
  <dcterms:modified xsi:type="dcterms:W3CDTF">2004-10-28T09:23:49Z</dcterms:modified>
  <cp:revision>20</cp:revision>
  <dc:subject/>
  <dc:title>PowerPoint Presentation</dc:title>
</cp:coreProperties>
</file>